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P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580272-BEB0-4EF6-9D80-91C372A0DE9A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65FC5C-1F2D-4CD9-AB9C-874AA7FC0B4A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62E437-6D2A-42AD-BB38-B7DB62BC8515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449820-66D2-4E68-846A-6C1BEFE2D3AF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133D20-7CE2-4603-9168-049373C63D57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F64B50-4191-4DD7-A69A-08591D58B3AD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1CCF2-4CB9-407F-9619-5099E8C7CDF6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26CABE-317A-48ED-AC95-FA44D6586CA0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C61BDA-C068-4EBB-BB07-D75D03B50F57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790144-2F7A-4F1C-A3DC-8EA5BCFEDE2A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F51D-E014-40BB-BE46-7B84769D28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2BBA-BCD2-4590-9532-DF952BE1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CA79-73D2-4A36-8C42-2EDA73B0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55B2-378C-4303-9AE5-B64FF93A84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9934-A7A5-4DD0-B881-19865D6A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640B-00AE-4309-8371-667B9FF7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BF6C-F66E-4F85-AC91-FC59755F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5194-5609-4D37-AE87-1817A5EB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F5C3-F9B0-4E8F-BD14-AB734726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ACE7-71F0-4FD2-9288-32E330E4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7344-B491-4C22-B7EB-656EDC4A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6C9F-2436-481B-8DCA-BBCB19B4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FE48C7-AE86-4B2E-8B42-D2D7694AA6DD}" type="slidenum">
              <a:rPr b="0" lang="en-P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coachmath.com/math_dictionary/pattern.html" TargetMode="External"/><Relationship Id="rId2" Type="http://schemas.openxmlformats.org/officeDocument/2006/relationships/hyperlink" Target="http://encyclopedia2.thefreedictionary.com/Sequence+(mathematics)" TargetMode="External"/><Relationship Id="rId3" Type="http://schemas.openxmlformats.org/officeDocument/2006/relationships/hyperlink" Target="http://mathdude.quickanddirtytips.com/what-is-a-mathematical-series.asp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Patterns in Sequences and S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72428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898989"/>
                </a:solidFill>
                <a:latin typeface="Calibri"/>
              </a:rPr>
              <a:t>Second year High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898989"/>
                </a:solidFill>
                <a:latin typeface="Calibri"/>
              </a:rPr>
              <a:t>Intermediate Alge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898989"/>
                </a:solidFill>
                <a:latin typeface="Calibri"/>
              </a:rPr>
              <a:t>Ms. Virna Gumia – January 10,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o understand patter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o be able to do own patter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o enrich knowledge about Mathema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What is a Patter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A Pattern constitutes a set of numbers or objects in which all the members are related with each other by a specific r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4991040" cy="2857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PH" sz="4400" spc="-1" strike="noStrike">
                <a:solidFill>
                  <a:srgbClr val="000000"/>
                </a:solidFill>
                <a:latin typeface="Calibri"/>
              </a:rPr>
              <a:t>Example of Patter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 above pattern contains 2 identical groups with each group having 3 different images, a star followed by a bar, which is followed by 3 do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953240" cy="1219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What is a Sequen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sequence,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 in mathematics, ordered set of mathematical quantities called terms. A sequence is said to be known if a formula can be given for any particular term using the preceding terms or using its position in the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4476960" cy="230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Example of Sequen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 sequence 1, 1, 2, 3, 5, 8, 13,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(the Fibonacci sequence) is formed by adding any two consecutive terms to obtain the next ter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 sequence − 1-2, 1, 7-2, 7, 23-2, 17, … is formed according to the formula (</a:t>
            </a:r>
            <a:r>
              <a:rPr b="0" i="1" lang="en-PH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PH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 − 2)/2 for the </a:t>
            </a:r>
            <a:r>
              <a:rPr b="0" i="1" lang="en-PH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, or general, term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81480" y="3238560"/>
            <a:ext cx="3562560" cy="361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What is a Ser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Well, a series in math is simply the sum of the various numbers, or elements of a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A mathematical series is simply the sum of the elements of a mathematical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Example of Seri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o make a series from the sequence of the first five positive integ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1, 2, 3, 4, 5, just add them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So, 1 + 2 + 3 + 4 + 5 = 15 is a se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is series is made from a </a:t>
            </a: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finite sequence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—and therefore </a:t>
            </a:r>
            <a:r>
              <a:rPr b="0" i="1" lang="en-PH" sz="3200" spc="-1" strike="noStrike">
                <a:solidFill>
                  <a:srgbClr val="000000"/>
                </a:solidFill>
                <a:latin typeface="Calibri"/>
              </a:rPr>
              <a:t>contains a finite number of terms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—it’s what’s called a finite se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icoachmath.com/math_dictionary/pattern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encyclopedia2.thefreedictionary.com/Sequence+(mathema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PH" sz="32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http://mathdude.quickanddirtytips.com/what-is-a-mathematical-series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00:05:48Z</dcterms:created>
  <dc:creator>virna</dc:creator>
  <dc:description/>
  <dc:language>en-US</dc:language>
  <cp:lastModifiedBy>virna</cp:lastModifiedBy>
  <dcterms:modified xsi:type="dcterms:W3CDTF">2012-10-01T00:58:27Z</dcterms:modified>
  <cp:revision>6</cp:revision>
  <dc:subject/>
  <dc:title>Patterns in Sequences and Series</dc:title>
</cp:coreProperties>
</file>